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6AC-7A4A-4216-848C-CD9BC253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738-C214-408C-A975-05A027D8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31B-EB9A-420A-B458-C8328B52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1C1-DEC3-4F3F-A919-BCFD110E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742-F137-4D95-A352-7A88D71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0D7-816E-4066-AB58-DB1EDAB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0C0-288E-4158-8DEB-E4769B19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BD9-0D03-44A1-8AF1-42A410A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063-349A-42E3-9728-A158545D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35B-8E56-4EC1-94FF-DC1BEBD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2B1-F0B0-42F5-9EFA-94BCB89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BAC-888F-41EE-8E77-0868D93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64A-1AC4-4EC6-AFAE-0F2A081D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Evil%20laugh.wav" TargetMode="External"/><Relationship Id="rId3" Type="http://schemas.microsoft.com/office/2007/relationships/media" Target="file:///tmp/home/.config/libreoffice/4/user/gallery/Evil%20laugh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Goo.wav" TargetMode="External"/><Relationship Id="rId6" Type="http://schemas.microsoft.com/office/2007/relationships/media" Target="file:///tmp/home/.config/libreoffice/4/user/gallery/Goo.wav" TargetMode="External"/><Relationship Id="rId7" Type="http://schemas.openxmlformats.org/officeDocument/2006/relationships/image" Target="../media/image2.png"/><Relationship Id="rId8" Type="http://schemas.openxmlformats.org/officeDocument/2006/relationships/audio" Target="file:///tmp/home/.config/libreoffice/4/user/gallery/Drumroll.wav" TargetMode="External"/><Relationship Id="rId9" Type="http://schemas.microsoft.com/office/2007/relationships/media" Target="file:///tmp/home/.config/libreoffice/4/user/gallery/Drumroll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Chime.wav" TargetMode="External"/><Relationship Id="rId3" Type="http://schemas.microsoft.com/office/2007/relationships/media" Target="file:///tmp/home/.config/libreoffice/4/user/gallery/Chime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SCREAM.WAV" TargetMode="External"/><Relationship Id="rId6" Type="http://schemas.microsoft.com/office/2007/relationships/media" Target="file:///tmp/home/.config/libreoffice/4/user/gallery/SCREAM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151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2286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46"/>
                <a:gd name="adj2" fmla="val 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ld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8088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56520" y="0"/>
            <a:ext cx="87480" cy="152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3436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'old house was an old,old door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Door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828960" cy="594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52280" y="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6768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tairs" descr=""/>
          <p:cNvPicPr/>
          <p:nvPr/>
        </p:nvPicPr>
        <p:blipFill>
          <a:blip r:embed="rId1"/>
          <a:stretch/>
        </p:blipFill>
        <p:spPr>
          <a:xfrm>
            <a:off x="1525680" y="1143000"/>
            <a:ext cx="6092640" cy="5560920"/>
          </a:xfrm>
          <a:prstGeom prst="rect">
            <a:avLst/>
          </a:prstGeom>
          <a:ln w="0">
            <a:noFill/>
          </a:ln>
        </p:spPr>
      </p:pic>
      <p:pic>
        <p:nvPicPr>
          <p:cNvPr id="52" name="Footsteps" descr=""/>
          <p:cNvPicPr/>
          <p:nvPr/>
        </p:nvPicPr>
        <p:blipFill>
          <a:blip r:embed="rId2"/>
          <a:stretch/>
        </p:blipFill>
        <p:spPr>
          <a:xfrm>
            <a:off x="2514600" y="4618080"/>
            <a:ext cx="4759200" cy="2239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228600"/>
            <a:ext cx="8953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hind the old,old door were some old,old step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ld%20chest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5105520" cy="359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38120" y="228600"/>
            <a:ext cx="870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t the top of the old,old steps was old,old ches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Bats" descr=""/>
          <p:cNvPicPr/>
          <p:nvPr/>
        </p:nvPicPr>
        <p:blipFill>
          <a:blip r:embed="rId3"/>
          <a:stretch/>
        </p:blipFill>
        <p:spPr>
          <a:xfrm>
            <a:off x="3962520" y="1905120"/>
            <a:ext cx="5715000" cy="4732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ts" descr=""/>
          <p:cNvPicPr/>
          <p:nvPr/>
        </p:nvPicPr>
        <p:blipFill>
          <a:blip r:embed="rId1"/>
          <a:stretch/>
        </p:blipFill>
        <p:spPr>
          <a:xfrm>
            <a:off x="5334120" y="674640"/>
            <a:ext cx="8126280" cy="618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152280"/>
            <a:ext cx="795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,old chest were some old,old hat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ox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8126640" cy="541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09480" y="609480"/>
            <a:ext cx="75438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nder the old,old hats was an old,old box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43000" y="228600"/>
            <a:ext cx="66294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old,old box was an old,old ke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80880"/>
            <a:ext cx="535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DDENLY APPEARED A ............. 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0" y="1143000"/>
            <a:ext cx="438156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HOST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75960" cy="75960"/>
          </a:xfrm>
          <a:prstGeom prst="rect">
            <a:avLst/>
          </a:prstGeom>
          <a:ln w="0">
            <a:noFill/>
          </a:ln>
        </p:spPr>
      </p:pic>
      <p:pic>
        <p:nvPicPr>
          <p:cNvPr id="71" name="Ghost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4513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438280" y="1828800"/>
            <a:ext cx="3962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TS  THE END FOLK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3657600"/>
            <a:ext cx="3543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NATHAN BEASLE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9:58:34Z</dcterms:created>
  <dc:creator>Glenboi</dc:creator>
  <dc:description/>
  <dc:language>en-US</dc:language>
  <cp:lastModifiedBy>Glenboi</cp:lastModifiedBy>
  <dcterms:modified xsi:type="dcterms:W3CDTF">2009-10-14T10:56:55Z</dcterms:modified>
  <cp:revision>1</cp:revision>
  <dc:subject/>
  <dc:title> </dc:title>
</cp:coreProperties>
</file>